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00480" y="1711440"/>
            <a:ext cx="763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Data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Communic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Model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77120" y="58752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 of Laye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320" y="1965240"/>
            <a:ext cx="89694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9640" y="10620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CP/IP and the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49200" y="844560"/>
            <a:ext cx="68281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6800" y="258840"/>
            <a:ext cx="58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 Compared with 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1760" y="1066680"/>
            <a:ext cx="48085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0" y="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3640" y="58752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EE Standards for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64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129040" y="587520"/>
            <a:ext cx="52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er-to-Peer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81200"/>
            <a:ext cx="8675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1880" y="411120"/>
            <a:ext cx="52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capsulation/Decaps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360" y="1262160"/>
            <a:ext cx="860904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85880" y="58752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rvice Access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19000" y="1816200"/>
            <a:ext cx="817272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70400" y="25884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95480" y="1066680"/>
            <a:ext cx="51530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2640" y="38088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801800"/>
            <a:ext cx="84945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0000" y="258840"/>
            <a:ext cx="31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ata Lin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747720"/>
            <a:ext cx="73216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3960" y="30492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twor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46040" y="1066680"/>
            <a:ext cx="574056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99040" y="58752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8440" y="1405080"/>
            <a:ext cx="86932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7:59:01Z</dcterms:modified>
  <cp:revision>31</cp:revision>
  <dc:subject/>
  <dc:title>PowerPoint Presentation</dc:title>
</cp:coreProperties>
</file>